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move the slide</a:t>
            </a:r>
            <a:endParaRPr b="1" lang="en-US" sz="4400" spc="-1" strike="noStrike">
              <a:solidFill>
                <a:srgbClr val="e5e5ff"/>
              </a:solidFill>
              <a:latin typeface="Palatino"/>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26008-4DA4-4D2C-85C8-FFAA2B2009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7240"/>
            <a:ext cx="4572000" cy="3429000"/>
          </a:xfrm>
          <a:prstGeom prst="rect">
            <a:avLst/>
          </a:prstGeom>
          <a:ln w="0">
            <a:noFill/>
          </a:ln>
        </p:spPr>
      </p:sp>
      <p:sp>
        <p:nvSpPr>
          <p:cNvPr id="2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8: </a:t>
            </a:r>
            <a:r>
              <a:rPr b="0" lang="el-GR" sz="1200" spc="-1" strike="noStrike">
                <a:solidFill>
                  <a:srgbClr val="000000"/>
                </a:solidFill>
                <a:latin typeface="Times New Roman"/>
                <a:ea typeface="Arial"/>
              </a:rPr>
              <a:t>The average number of days each year on which thunderstorms are observed throughout the United States. (Due to the scarcity of data, the number of thunderstorms is underestimated in the mountainous we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7240"/>
            <a:ext cx="4572000" cy="3429000"/>
          </a:xfrm>
          <a:prstGeom prst="rect">
            <a:avLst/>
          </a:prstGeom>
          <a:ln w="0">
            <a:noFill/>
          </a:ln>
        </p:spPr>
      </p:sp>
      <p:sp>
        <p:nvSpPr>
          <p:cNvPr id="23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3: </a:t>
            </a:r>
            <a:r>
              <a:rPr b="0" lang="el-GR" sz="1200" spc="-1" strike="noStrike">
                <a:solidFill>
                  <a:srgbClr val="000000"/>
                </a:solidFill>
                <a:latin typeface="Times New Roman"/>
                <a:ea typeface="Arial"/>
              </a:rPr>
              <a:t>Radar image of an outflow boundary. As cool dense air from inside the severe thunderstorms (red and orange colors) spreads outward, away from the storms, it comes in contact with the surrounding warm, humid, less-dense air forming a density boundary (blue line) called an </a:t>
            </a:r>
            <a:r>
              <a:rPr b="0" i="1" lang="el-GR" sz="1200" spc="-1" strike="noStrike">
                <a:solidFill>
                  <a:srgbClr val="000000"/>
                </a:solidFill>
                <a:latin typeface="Times New Roman"/>
                <a:ea typeface="Arial"/>
              </a:rPr>
              <a:t>outflow boundary </a:t>
            </a:r>
            <a:r>
              <a:rPr b="0" lang="el-GR" sz="1200" spc="-1" strike="noStrike">
                <a:solidFill>
                  <a:srgbClr val="000000"/>
                </a:solidFill>
                <a:latin typeface="Times New Roman"/>
                <a:ea typeface="Arial"/>
              </a:rPr>
              <a:t>between cool air and warm air. Along the outflow boundary, new thunderstorms often for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5: </a:t>
            </a:r>
            <a:r>
              <a:rPr b="0" lang="el-GR" sz="1200" spc="-1" strike="noStrike">
                <a:solidFill>
                  <a:srgbClr val="000000"/>
                </a:solidFill>
                <a:latin typeface="Times New Roman"/>
                <a:ea typeface="Arial"/>
              </a:rPr>
              <a:t>Conditions leading to the formation of severe thunderstorms, and especially supercells. The area in green shows where severe thunderstorms are likely to for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7240"/>
            <a:ext cx="4572000" cy="3429000"/>
          </a:xfrm>
          <a:prstGeom prst="rect">
            <a:avLst/>
          </a:prstGeom>
          <a:ln w="0">
            <a:noFill/>
          </a:ln>
        </p:spPr>
      </p:sp>
      <p:sp>
        <p:nvSpPr>
          <p:cNvPr id="23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A wall cloud associated with a supercell thunderstorm spins counterclockwise over the plains of Texas. Beneath the wall cloud, dust rising from the surface indicates that a tornado is about to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 Weatherstock/Peter Arnold, In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7240"/>
            <a:ext cx="4572000" cy="3429000"/>
          </a:xfrm>
          <a:prstGeom prst="rect">
            <a:avLst/>
          </a:prstGeom>
          <a:ln w="0">
            <a:noFill/>
          </a:ln>
        </p:spPr>
      </p:sp>
      <p:sp>
        <p:nvSpPr>
          <p:cNvPr id="23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4: </a:t>
            </a:r>
            <a:r>
              <a:rPr b="0" lang="el-GR" sz="1200" spc="-1" strike="noStrike">
                <a:solidFill>
                  <a:srgbClr val="000000"/>
                </a:solidFill>
                <a:latin typeface="Times New Roman"/>
                <a:ea typeface="Arial"/>
              </a:rPr>
              <a:t>A supercell thunderstorm with a tornado sweeps over Tex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7: </a:t>
            </a:r>
            <a:r>
              <a:rPr b="0" lang="el-GR" sz="1200" spc="-1" strike="noStrike">
                <a:solidFill>
                  <a:srgbClr val="000000"/>
                </a:solidFill>
                <a:latin typeface="Times New Roman"/>
                <a:ea typeface="Arial"/>
              </a:rPr>
              <a:t>Pre-frontal squall-line thunderstorms may form ahead of an advancing cold front as the upper-air flow develops waves downwind from the cold fro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7240"/>
            <a:ext cx="4572000" cy="3429000"/>
          </a:xfrm>
          <a:prstGeom prst="rect">
            <a:avLst/>
          </a:prstGeom>
          <a:ln w="0">
            <a:noFill/>
          </a:ln>
        </p:spPr>
      </p:sp>
      <p:sp>
        <p:nvSpPr>
          <p:cNvPr id="24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0: </a:t>
            </a:r>
            <a:r>
              <a:rPr b="0" lang="el-GR" sz="1200" spc="-1" strike="noStrike">
                <a:solidFill>
                  <a:srgbClr val="000000"/>
                </a:solidFill>
                <a:latin typeface="Times New Roman"/>
                <a:ea typeface="Arial"/>
              </a:rPr>
              <a:t>A simplified model describing air motions and other features associated with an intense thunderstorm that has a tilted updraft. The severity depends on the intensity of the storm’s circulation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7240"/>
            <a:ext cx="4572000" cy="3429000"/>
          </a:xfrm>
          <a:prstGeom prst="rect">
            <a:avLst/>
          </a:prstGeom>
          <a:ln w="0">
            <a:noFill/>
          </a:ln>
        </p:spPr>
      </p:sp>
      <p:sp>
        <p:nvSpPr>
          <p:cNvPr id="245"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1: </a:t>
            </a:r>
            <a:r>
              <a:rPr b="0" lang="el-GR" sz="1200" spc="-1" strike="noStrike">
                <a:solidFill>
                  <a:srgbClr val="000000"/>
                </a:solidFill>
                <a:latin typeface="Times New Roman"/>
                <a:ea typeface="Arial"/>
              </a:rPr>
              <a:t>A dramatic example of a shelf cloud (or arcus cloud) associated with an intense thunderstorm. The photograph was taken in the Philippines as the thunderstorm approached from the northw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7240"/>
            <a:ext cx="4572000" cy="3429000"/>
          </a:xfrm>
          <a:prstGeom prst="rect">
            <a:avLst/>
          </a:prstGeom>
          <a:ln w="0">
            <a:noFill/>
          </a:ln>
        </p:spPr>
      </p:sp>
      <p:sp>
        <p:nvSpPr>
          <p:cNvPr id="22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847A87-5A7D-4E04-A92F-A847475EB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443F53-8306-4F81-98BE-34893156F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E92970-EE6F-48E5-BC39-B9D9AC893F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47B3AF-1C2B-4FDD-B6FB-E4FF652C7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F3BE03-83D9-4D29-9193-C4C9AA48FE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F6A610-2215-422F-96EE-E3953D7A81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A9D1D9-295D-4385-A2EC-FE4F02128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0443A-B016-4829-944A-5B2CA7A94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5F6B43-9001-47DD-82B0-90B5FE271B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8B066-EAD2-4C48-ACFE-1F5F6531C3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FF17C4-CEE9-433C-A7A3-2FF7FFEB24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462E49-D825-4733-A260-033900B10C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958EC-A31C-4A4B-8DD6-BB37571315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B33D2C-6E83-4AD7-8F76-4D981BEA4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17F26-F82C-4051-A65C-7434CA60EC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5981A9-EC1D-4B59-B18B-848FAB4D5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D24149F-EBB9-40FC-BD15-8E0F624B799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48CCB0C-B779-4DB3-A667-BFED4C1511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CD3B47-ED44-46CC-867F-3DEEA349E3C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71B622-9E8F-4355-AAB8-017CF1C3DC9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646B80-13A3-42CB-97FF-9AEE09D75F0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E39008-8E40-4D43-A35C-B981128B17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A7A33-A55C-4387-B496-67B64524D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1A3D05-EAC9-4501-8E86-637DE7E98D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97EF23-DEEF-4396-B973-E506A02B6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78B6DE-5C56-4191-BF90-33478C9262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7F5A460-912A-4245-8FD0-D3E3E593592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765B12-5995-450B-B916-0BC0BF38F7B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B3A13D0-7E6B-4951-B940-ACC8A2CEE2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2505949-7252-4550-8B8B-6A32B38F676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F6151-61C5-440B-A38A-5A3B35DD6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47A49-7138-4EBE-90FD-3E8065BD3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EACC78-A1E8-430A-8721-62D1DC8EB0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2D57C1-EE5E-4381-B998-AC940EEDDE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5B740-34D4-4BFC-AD33-A2C261CD92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A45F8-1070-40D8-ADF5-FB4FB34DB2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08440" indent="-2214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551960" indent="-2214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1995480" indent="-221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21BDB-E5E4-45EB-AE8A-9A41E7F6205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2743200" y="2236680"/>
              <a:ext cx="6392880" cy="4613400"/>
              <a:chOff x="2743200" y="2236680"/>
              <a:chExt cx="6392880" cy="461340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D8376-B1D3-49E9-AD0F-57F254F1641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5939F-B0E8-4294-BCD4-487D7CEC59D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7391520"/>
          </a:xfrm>
          <a:prstGeom prst="rect">
            <a:avLst/>
          </a:prstGeom>
          <a:ln w="0">
            <a:noFill/>
          </a:ln>
        </p:spPr>
      </p:pic>
      <p:sp>
        <p:nvSpPr>
          <p:cNvPr id="1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Thunderstorms</a:t>
            </a:r>
            <a:endParaRPr b="1" lang="en-US" sz="4800" spc="-1" strike="noStrike">
              <a:solidFill>
                <a:srgbClr val="e5e5ff"/>
              </a:solidFill>
              <a:latin typeface="Palatino"/>
            </a:endParaRPr>
          </a:p>
        </p:txBody>
      </p:sp>
      <p:sp>
        <p:nvSpPr>
          <p:cNvPr id="149" name="PlaceHolder 2"/>
          <p:cNvSpPr>
            <a:spLocks noGrp="1"/>
          </p:cNvSpPr>
          <p:nvPr>
            <p:ph/>
          </p:nvPr>
        </p:nvSpPr>
        <p:spPr>
          <a:xfrm>
            <a:off x="0" y="3809520"/>
            <a:ext cx="83059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01520" y="849240"/>
            <a:ext cx="8940960" cy="51577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9"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70"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72"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73"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74"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03040" y="912960"/>
            <a:ext cx="8940960" cy="594504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77"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8, p. 277</a:t>
            </a:r>
            <a:endParaRPr b="0" lang="en-US" sz="1400" spc="-1" strike="noStrike">
              <a:solidFill>
                <a:srgbClr val="ffffff"/>
              </a:solidFill>
              <a:latin typeface="Times New Roman"/>
            </a:endParaRPr>
          </a:p>
        </p:txBody>
      </p:sp>
      <p:sp>
        <p:nvSpPr>
          <p:cNvPr id="178" name=""/>
          <p:cNvSpPr/>
          <p:nvPr/>
        </p:nvSpPr>
        <p:spPr>
          <a:xfrm>
            <a:off x="228600" y="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The average number of days each year on which thunderstorms are observed throughout the United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vere Thunderstorms and the Supercell</a:t>
            </a:r>
            <a:endParaRPr b="1" lang="en-US" sz="4400" spc="-1" strike="noStrike">
              <a:solidFill>
                <a:srgbClr val="e5e5ff"/>
              </a:solidFill>
              <a:latin typeface="Palatino"/>
            </a:endParaRPr>
          </a:p>
        </p:txBody>
      </p:sp>
      <p:sp>
        <p:nvSpPr>
          <p:cNvPr id="180" name="PlaceHolder 2"/>
          <p:cNvSpPr>
            <a:spLocks noGrp="1"/>
          </p:cNvSpPr>
          <p:nvPr>
            <p:ph/>
          </p:nvPr>
        </p:nvSpPr>
        <p:spPr>
          <a:xfrm>
            <a:off x="457200" y="152352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s</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cell</a:t>
            </a:r>
            <a:endParaRPr b="0" lang="en-US" sz="3200" spc="-1" strike="noStrike">
              <a:solidFill>
                <a:srgbClr val="ffffff"/>
              </a:solidFill>
              <a:latin typeface="Palatino"/>
            </a:endParaRPr>
          </a:p>
        </p:txBody>
      </p:sp>
      <p:pic>
        <p:nvPicPr>
          <p:cNvPr id="181" name="" descr=""/>
          <p:cNvPicPr/>
          <p:nvPr/>
        </p:nvPicPr>
        <p:blipFill>
          <a:blip r:embed="rId1"/>
          <a:stretch/>
        </p:blipFill>
        <p:spPr>
          <a:xfrm>
            <a:off x="1206360" y="2743200"/>
            <a:ext cx="6731280" cy="39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167040" y="1371600"/>
            <a:ext cx="902772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kelihood that a thunderstorm will become </a:t>
            </a:r>
            <a:r>
              <a:rPr b="1" lang="en-US" sz="2400" spc="-1" strike="noStrike">
                <a:solidFill>
                  <a:srgbClr val="ffffff"/>
                </a:solidFill>
                <a:latin typeface="Arial"/>
              </a:rPr>
              <a:t>severe</a:t>
            </a:r>
            <a:r>
              <a:rPr b="0" lang="en-US" sz="2400" spc="-1" strike="noStrike">
                <a:solidFill>
                  <a:srgbClr val="ffffff"/>
                </a:solidFill>
                <a:latin typeface="Arial"/>
              </a:rPr>
              <a:t> increas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the length of time the storm surviv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thunderstorms tend to from in regions of low wind she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is, the storms downdraft and precipitation can fa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updraft– which kills the stor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re is some </a:t>
            </a:r>
            <a:r>
              <a:rPr b="0" i="1" lang="en-US" sz="2400" spc="-1" strike="noStrike">
                <a:solidFill>
                  <a:srgbClr val="ffffff"/>
                </a:solidFill>
                <a:latin typeface="Arial"/>
              </a:rPr>
              <a:t>moderate</a:t>
            </a:r>
            <a:r>
              <a:rPr b="0" lang="en-US" sz="2400" spc="-1" strike="noStrike">
                <a:solidFill>
                  <a:srgbClr val="ffffff"/>
                </a:solidFill>
                <a:latin typeface="Arial"/>
              </a:rPr>
              <a:t> wind shear, the precip is push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wind so that it does not fall into the updraft– and thus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pdraft is not suppress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downdraft undercuts the updraft, then new cells can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ducing a long-lasting </a:t>
            </a:r>
            <a:r>
              <a:rPr b="1" lang="en-US" sz="2400" spc="-1" strike="noStrike">
                <a:solidFill>
                  <a:srgbClr val="ffcc00"/>
                </a:solidFill>
                <a:latin typeface="Arial"/>
              </a:rPr>
              <a:t>multicell storm</a:t>
            </a:r>
            <a:r>
              <a:rPr b="0" lang="en-US" sz="2400" spc="-1" strike="noStrike">
                <a:solidFill>
                  <a:srgbClr val="ffffff"/>
                </a:solidFill>
                <a:latin typeface="Arial"/>
              </a:rPr>
              <a:t>. A storm with a clus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cells at various stages of their life cycl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82">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2">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82">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2">
                                            <p:txEl>
                                              <p:pRg st="7" end="7"/>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2">
                                            <p:txEl>
                                              <p:pRg st="8" end="8"/>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2">
                                            <p:txEl>
                                              <p:pRg st="9" end="9"/>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2">
                                            <p:txEl>
                                              <p:pRg st="11" end="1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82">
                                            <p:txEl>
                                              <p:pRg st="12" end="1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1554120"/>
            <a:ext cx="9144000" cy="5303880"/>
          </a:xfrm>
          <a:prstGeom prst="rect">
            <a:avLst/>
          </a:prstGeom>
          <a:ln w="0">
            <a:noFill/>
          </a:ln>
        </p:spPr>
      </p:pic>
      <p:sp>
        <p:nvSpPr>
          <p:cNvPr id="185" name=""/>
          <p:cNvSpPr/>
          <p:nvPr/>
        </p:nvSpPr>
        <p:spPr>
          <a:xfrm>
            <a:off x="2057400" y="484200"/>
            <a:ext cx="44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 comple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3520" y="587520"/>
            <a:ext cx="7848360" cy="619416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8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3, p. 272</a:t>
            </a:r>
            <a:endParaRPr b="0" lang="en-US" sz="1400" spc="-1" strike="noStrike">
              <a:solidFill>
                <a:srgbClr val="ffffff"/>
              </a:solidFill>
              <a:latin typeface="Times New Roman"/>
            </a:endParaRPr>
          </a:p>
        </p:txBody>
      </p:sp>
      <p:sp>
        <p:nvSpPr>
          <p:cNvPr id="189" name=""/>
          <p:cNvSpPr/>
          <p:nvPr/>
        </p:nvSpPr>
        <p:spPr>
          <a:xfrm>
            <a:off x="2062080" y="-324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Radar image of an outflow bound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83160" y="990720"/>
            <a:ext cx="90550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multicell storm, if convection is strong and updrafts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torm can become </a:t>
            </a:r>
            <a:r>
              <a:rPr b="1" i="1" lang="en-US" sz="2400" spc="-1" strike="noStrike">
                <a:solidFill>
                  <a:srgbClr val="ffffff"/>
                </a:solidFill>
                <a:latin typeface="Arial"/>
              </a:rPr>
              <a:t>severe</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in severe thunderstorms can cause the cloud to reac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stratosphere and in some cases extend up to 60,000 f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updrafts can keep hailstones suspended in the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ng enough for them to grow to considerable siz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they become large enough they either fall out the bott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the cloud within a downdraft or a strong updraft may tos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m out the 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craft have encountered hail in clear air several kilometer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a 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0">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90">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0">
                                            <p:txEl>
                                              <p:pRg st="9" end="9"/>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90">
                                            <p:txEl>
                                              <p:pRg st="10" end="1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90">
                                            <p:txEl>
                                              <p:pRg st="11" end="1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0">
                                            <p:txEl>
                                              <p:pRg st="13" end="1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9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
          <p:cNvSpPr/>
          <p:nvPr/>
        </p:nvSpPr>
        <p:spPr>
          <a:xfrm>
            <a:off x="78120" y="990720"/>
            <a:ext cx="90277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winds become stronger aloft, the wind shear may b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ong enough to create horizontal spin, which when tilted in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updraft causes it to rota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thunderstorm may grow into a larger, long-las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than an hour), severe storm called a </a:t>
            </a:r>
            <a:r>
              <a:rPr b="1" lang="en-US" sz="2400" spc="-1" strike="noStrike">
                <a:solidFill>
                  <a:srgbClr val="ffcc00"/>
                </a:solidFill>
                <a:latin typeface="Arial"/>
              </a:rPr>
              <a:t>Superce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tational aspect of supercells can lead to the formation o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storms are typically enormous thunderstorms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ist of primarily of a single violently rotating updraft.</a:t>
            </a:r>
            <a:endParaRPr b="0" lang="en-US" sz="2400" spc="-1" strike="noStrike">
              <a:solidFill>
                <a:srgbClr val="ffffff"/>
              </a:solidFill>
              <a:latin typeface="Times New Roman"/>
            </a:endParaRPr>
          </a:p>
        </p:txBody>
      </p:sp>
      <p:sp>
        <p:nvSpPr>
          <p:cNvPr id="193" name=""/>
          <p:cNvSpPr/>
          <p:nvPr/>
        </p:nvSpPr>
        <p:spPr>
          <a:xfrm>
            <a:off x="2595600" y="228600"/>
            <a:ext cx="418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upercell thunderstor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2">
                                            <p:txEl>
                                              <p:pRg st="8" end="8"/>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2">
                                            <p:txEl>
                                              <p:pRg st="10" end="1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4572000" y="203040"/>
            <a:ext cx="4280040" cy="665496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6" name=""/>
          <p:cNvSpPr/>
          <p:nvPr/>
        </p:nvSpPr>
        <p:spPr>
          <a:xfrm flipV="1" rot="10800000">
            <a:off x="304560" y="379800"/>
            <a:ext cx="4343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Conditions leading to the formation of severe thunderstorms, and especially supercel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271680" y="203040"/>
            <a:ext cx="5872320" cy="665496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9" name=""/>
          <p:cNvSpPr/>
          <p:nvPr/>
        </p:nvSpPr>
        <p:spPr>
          <a:xfrm>
            <a:off x="0" y="533520"/>
            <a:ext cx="312408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cc00"/>
                </a:solidFill>
                <a:latin typeface="Arial"/>
              </a:rPr>
              <a:t>A </a:t>
            </a:r>
            <a:r>
              <a:rPr b="1" lang="el-GR" sz="3200" spc="-1" strike="noStrike">
                <a:solidFill>
                  <a:srgbClr val="ffcc00"/>
                </a:solidFill>
                <a:latin typeface="Arial"/>
              </a:rPr>
              <a:t>wall cloud</a:t>
            </a:r>
            <a:r>
              <a:rPr b="0" lang="el-GR" sz="2800" spc="-1" strike="noStrike">
                <a:solidFill>
                  <a:srgbClr val="ffcc00"/>
                </a:solidFill>
                <a:latin typeface="Arial"/>
              </a:rPr>
              <a:t> associated with a supercell thunderstorm spins counterclockwi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rdinary Cell Thunderstorms</a:t>
            </a:r>
            <a:endParaRPr b="1" lang="en-US" sz="4400" spc="-1" strike="noStrike">
              <a:solidFill>
                <a:srgbClr val="e5e5ff"/>
              </a:solidFill>
              <a:latin typeface="Palatino"/>
            </a:endParaRPr>
          </a:p>
        </p:txBody>
      </p:sp>
      <p:sp>
        <p:nvSpPr>
          <p:cNvPr id="15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mulus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ure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sipating stage</a:t>
            </a:r>
            <a:endParaRPr b="0" lang="en-US" sz="3200" spc="-1" strike="noStrike">
              <a:solidFill>
                <a:srgbClr val="ffffff"/>
              </a:solidFill>
              <a:latin typeface="Palatino"/>
            </a:endParaRPr>
          </a:p>
        </p:txBody>
      </p:sp>
      <p:sp>
        <p:nvSpPr>
          <p:cNvPr id="152" name=""/>
          <p:cNvSpPr/>
          <p:nvPr/>
        </p:nvSpPr>
        <p:spPr>
          <a:xfrm>
            <a:off x="1143000" y="4038480"/>
            <a:ext cx="7391520" cy="19227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cell thunderstorms are sometimes called</a:t>
            </a:r>
            <a:br>
              <a:rPr sz="2400"/>
            </a:br>
            <a:r>
              <a:rPr b="0" lang="en-US" sz="2400" spc="-1" strike="noStrike">
                <a:solidFill>
                  <a:srgbClr val="ffffff"/>
                </a:solidFill>
                <a:latin typeface="Arial"/>
              </a:rPr>
              <a:t>‘air mass thunderstorms’, because they form in </a:t>
            </a:r>
            <a:br>
              <a:rPr sz="2400"/>
            </a:br>
            <a:r>
              <a:rPr b="0" lang="en-US" sz="2400" spc="-1" strike="noStrike">
                <a:solidFill>
                  <a:srgbClr val="ffffff"/>
                </a:solidFill>
                <a:latin typeface="Arial"/>
              </a:rPr>
              <a:t>conditionally unstable air masses and are not necessarily associated with fronts or severe weat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01520" y="398520"/>
            <a:ext cx="8940960" cy="653580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02"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4, p. 268</a:t>
            </a:r>
            <a:endParaRPr b="0" lang="en-US" sz="1400" spc="-1" strike="noStrike">
              <a:solidFill>
                <a:srgbClr val="ffffff"/>
              </a:solidFill>
              <a:latin typeface="Times New Roman"/>
            </a:endParaRPr>
          </a:p>
        </p:txBody>
      </p:sp>
      <p:sp>
        <p:nvSpPr>
          <p:cNvPr id="203" name=""/>
          <p:cNvSpPr/>
          <p:nvPr/>
        </p:nvSpPr>
        <p:spPr>
          <a:xfrm>
            <a:off x="979560" y="0"/>
            <a:ext cx="69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A supercell thunderstorm with a tornado sweeps over Tex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80280" y="990720"/>
            <a:ext cx="909144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squall line</a:t>
            </a:r>
            <a:r>
              <a:rPr b="0" lang="en-US" sz="2400" spc="-1" strike="noStrike">
                <a:solidFill>
                  <a:srgbClr val="ffffff"/>
                </a:solidFill>
                <a:latin typeface="Arial"/>
              </a:rPr>
              <a:t> forms as a line of thunderstorms, either right alo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ld front or in the warm air 100-300 km ahead of i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rontal squall-line thunderstorms represent the most seve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largest type of 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still debate as to exactly how pre-frontal squall lines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3431160" y="228600"/>
            <a:ext cx="218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ll 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04">
                                            <p:txEl>
                                              <p:pRg st="3" end="3"/>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600200" y="949320"/>
            <a:ext cx="6095880" cy="5985000"/>
          </a:xfrm>
          <a:prstGeom prst="rect">
            <a:avLst/>
          </a:prstGeom>
          <a:ln w="0">
            <a:noFill/>
          </a:ln>
        </p:spPr>
      </p:pic>
      <p:sp>
        <p:nvSpPr>
          <p:cNvPr id="207" name=""/>
          <p:cNvSpPr/>
          <p:nvPr/>
        </p:nvSpPr>
        <p:spPr>
          <a:xfrm>
            <a:off x="1143000" y="7632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 Doppler radar composite showing a pre-frontal </a:t>
            </a:r>
            <a:r>
              <a:rPr b="0" lang="el-GR" sz="2000" spc="-1" strike="noStrike">
                <a:solidFill>
                  <a:srgbClr val="ffcc00"/>
                </a:solidFill>
                <a:latin typeface="Arial"/>
              </a:rPr>
              <a:t>squall line</a:t>
            </a:r>
            <a:r>
              <a:rPr b="0" lang="el-GR" sz="2000" spc="-1" strike="noStrike">
                <a:solidFill>
                  <a:srgbClr val="ffffff"/>
                </a:solidFill>
                <a:latin typeface="Arial"/>
              </a:rPr>
              <a:t> extending from Indiana southwestward into Arkans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27080" y="906480"/>
            <a:ext cx="8940600" cy="38178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0" name=""/>
          <p:cNvSpPr/>
          <p:nvPr/>
        </p:nvSpPr>
        <p:spPr>
          <a:xfrm>
            <a:off x="380880" y="51055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Pre-frontal squall-line thunderstorms may form ahead of an advancing cold front as the upper-air flow develops waves downwind from the cold front.</a:t>
            </a:r>
            <a:endParaRPr b="0" lang="en-US" sz="2400" spc="-1" strike="noStrike">
              <a:solidFill>
                <a:srgbClr val="ffffff"/>
              </a:solidFill>
              <a:latin typeface="Times New Roman"/>
            </a:endParaRPr>
          </a:p>
        </p:txBody>
      </p:sp>
      <p:sp>
        <p:nvSpPr>
          <p:cNvPr id="211" name=""/>
          <p:cNvSpPr/>
          <p:nvPr/>
        </p:nvSpPr>
        <p:spPr>
          <a:xfrm>
            <a:off x="2439000" y="106200"/>
            <a:ext cx="401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cc00"/>
                </a:solidFill>
                <a:latin typeface="Arial"/>
              </a:rPr>
              <a:t>Pre-frontal squall-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1" lang="en-US" sz="4000" spc="-1" strike="noStrike">
              <a:solidFill>
                <a:srgbClr val="e5e5ff"/>
              </a:solidFill>
              <a:latin typeface="Palatino"/>
            </a:endParaRPr>
          </a:p>
        </p:txBody>
      </p:sp>
      <p:sp>
        <p:nvSpPr>
          <p:cNvPr id="213" name=""/>
          <p:cNvSpPr/>
          <p:nvPr/>
        </p:nvSpPr>
        <p:spPr>
          <a:xfrm>
            <a:off x="212760" y="1447920"/>
            <a:ext cx="89312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esoscale Convective Complexes (MCCs)</a:t>
            </a:r>
            <a:r>
              <a:rPr b="0" lang="en-US" sz="2400" spc="-1" strike="noStrike">
                <a:solidFill>
                  <a:srgbClr val="ffffff"/>
                </a:solidFill>
                <a:latin typeface="Arial"/>
              </a:rPr>
              <a:t> form when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umber of thunderstorms grow into a single, large, circular convective weather syste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be as large as 1000 times that of a ordinary cell thunder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ver an entire state and move slowly lasting up to 12 hou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during summer in regions where upper-level winds ar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a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associated with severe weather, including hail, high win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ructive flash floods, and 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13">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3">
                                            <p:txEl>
                                              <p:pRg st="10" end="1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752480" y="838080"/>
            <a:ext cx="6081840" cy="6096240"/>
          </a:xfrm>
          <a:prstGeom prst="rect">
            <a:avLst/>
          </a:prstGeom>
          <a:ln w="0">
            <a:noFill/>
          </a:ln>
        </p:spPr>
      </p:pic>
      <p:sp>
        <p:nvSpPr>
          <p:cNvPr id="215" name=""/>
          <p:cNvSpPr/>
          <p:nvPr/>
        </p:nvSpPr>
        <p:spPr>
          <a:xfrm>
            <a:off x="380880" y="-1522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01520" y="1762200"/>
            <a:ext cx="8940960" cy="33336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0, p. 271</a:t>
            </a:r>
            <a:endParaRPr b="0" lang="en-US" sz="1400" spc="-1" strike="noStrike">
              <a:solidFill>
                <a:srgbClr val="ffffff"/>
              </a:solidFill>
              <a:latin typeface="Times New Roman"/>
            </a:endParaRPr>
          </a:p>
        </p:txBody>
      </p:sp>
      <p:sp>
        <p:nvSpPr>
          <p:cNvPr id="219" name=""/>
          <p:cNvSpPr/>
          <p:nvPr/>
        </p:nvSpPr>
        <p:spPr>
          <a:xfrm>
            <a:off x="228600" y="3049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simplified model describing air motions and other features associated with an intense thunderstorm that has a tilted updraf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03040" y="914400"/>
            <a:ext cx="8940960" cy="57214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2"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1, p. 271</a:t>
            </a:r>
            <a:endParaRPr b="0" lang="en-US" sz="1400" spc="-1" strike="noStrike">
              <a:solidFill>
                <a:srgbClr val="ffffff"/>
              </a:solidFill>
              <a:latin typeface="Times New Roman"/>
            </a:endParaRPr>
          </a:p>
        </p:txBody>
      </p:sp>
      <p:sp>
        <p:nvSpPr>
          <p:cNvPr id="223" name=""/>
          <p:cNvSpPr/>
          <p:nvPr/>
        </p:nvSpPr>
        <p:spPr>
          <a:xfrm>
            <a:off x="152640" y="98280"/>
            <a:ext cx="8838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dramatic example of a shelf cloud (or arcus cloud) associate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with an intense thunderstor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296360" y="380880"/>
            <a:ext cx="617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y of today’s lecture</a:t>
            </a:r>
            <a:endParaRPr b="0" lang="en-US" sz="3600" spc="-1" strike="noStrike">
              <a:solidFill>
                <a:srgbClr val="ffffff"/>
              </a:solidFill>
              <a:latin typeface="Times New Roman"/>
            </a:endParaRPr>
          </a:p>
        </p:txBody>
      </p:sp>
      <p:sp>
        <p:nvSpPr>
          <p:cNvPr id="225" name=""/>
          <p:cNvSpPr/>
          <p:nvPr/>
        </p:nvSpPr>
        <p:spPr>
          <a:xfrm>
            <a:off x="990720" y="1371600"/>
            <a:ext cx="7483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 cycle of ordinary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oscale Convective Complex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533520" y="71280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ry thunderstorms tend to form in regions of limited wind shea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 along shallow zones where surface winds converge: topographic irregularities, sea-breeze fronts, outflow boundaries from thunderstorms… producing more thunderstorm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ging wind boundaries are regions of temperature and humidity contrasts: density differenc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01520" y="849240"/>
            <a:ext cx="8940960" cy="5157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6"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57"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59"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60"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61"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7080" y="838080"/>
            <a:ext cx="870444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umulus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 the growth stage, as cumulus cloud build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ansformation of water vapor to liquid and solid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oplets releases latent heat that keeps the rising air in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loud warmer than environ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stage there is insufficient time for precipitation 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m. Updrafts keep water droplets and ice crystals suspend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in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lightning or thunder during this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cumulus takes on the appearance of a ‘t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2">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2">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2">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2">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2">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2">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35800" y="609480"/>
            <a:ext cx="87166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cloud builds above the freezing level, the cloud drople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row larger and heavier. Eventually the rising air can no long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eep the particles suspended and they begin to fa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er air around the cloud begins to be drawn into the cloud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rocesses know as </a:t>
            </a:r>
            <a:r>
              <a:rPr b="1" lang="en-US" sz="2400" spc="-1" strike="noStrike">
                <a:solidFill>
                  <a:srgbClr val="ffffff"/>
                </a:solidFill>
                <a:latin typeface="Arial"/>
              </a:rPr>
              <a:t>entrai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rainment of drier air into the cloud causes some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drops to evaporate, which cools the a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now colder begins to descend as a </a:t>
            </a:r>
            <a:r>
              <a:rPr b="1" lang="en-US" sz="2400" spc="-1" strike="noStrike">
                <a:solidFill>
                  <a:srgbClr val="ffffff"/>
                </a:solidFill>
                <a:latin typeface="Arial"/>
              </a:rPr>
              <a:t>downdraf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earance of the downdraft marks the beginning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ture st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3">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63">
                                            <p:txEl>
                                              <p:pRg st="3" end="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3">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3">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3">
                                            <p:txEl>
                                              <p:pRg st="10" end="1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3">
                                            <p:txEl>
                                              <p:pRg st="12" end="1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63">
                                            <p:txEl>
                                              <p:pRg st="14" end="1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31480" y="609480"/>
            <a:ext cx="86875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raft and downdraft within the mature thunderstorm no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titute the ce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mature stage, the thunderstorm is most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p of the cloud, having reached a stable region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mosphere, begins to take on the anvil shape as upper-lev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s spread the cloud’s ice crystals horizontall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and downdrafts are at their greatest strength in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ddle of the cloud, creating severe turbul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ning and thunder are also present in the mature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160" y="609480"/>
            <a:ext cx="88506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vy rain falls from the cloud, and at the surface there is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rush of cold air with the onset of precipit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cold downdraft reaches the surface, the air sprea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ut horizontally in all directions. The boundary between the col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ir and the warm surface air is called a </a:t>
            </a:r>
            <a:r>
              <a:rPr b="1" lang="en-US" sz="2400" spc="-1" strike="noStrike">
                <a:solidFill>
                  <a:srgbClr val="ffffff"/>
                </a:solidFill>
                <a:latin typeface="Arial"/>
              </a:rPr>
              <a:t>gust fro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orm begins to dissipate after 15-30 minutes after enterin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ture stag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5">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5">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5">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65">
                                            <p:txEl>
                                              <p:pRg st="9" end="9"/>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9320" y="609480"/>
            <a:ext cx="89773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ssipating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when the updrafts weaken as the gust front move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the storm and no longer enhances the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is stage, downdrafts dominate throughout much of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son the storm does not last very long is that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drafts inside the cloud tend to cut off the storm’s fue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ly by destroying the humid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ly do thunderstorms produce summer rainfall for a lar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rtion of the US, but they also provide momentary cooling af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oppressively hot d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1:02:52Z</dcterms:created>
  <dc:creator>Jon Kahl</dc:creator>
  <dc:description/>
  <dc:language>en-US</dc:language>
  <cp:lastModifiedBy>t d</cp:lastModifiedBy>
  <dcterms:modified xsi:type="dcterms:W3CDTF">2009-11-17T12:08:19Z</dcterms:modified>
  <cp:revision>47</cp:revision>
  <dc:subject/>
  <dc:title>PowerPoint Presentation</dc:title>
</cp:coreProperties>
</file>